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35A-FBB4-4CAA-A014-752D3EAE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535-4BE0-479D-BD6E-6065A680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BB1-C002-4521-8A22-CE523AD2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E8D-6272-4265-8EC7-9F8CDCD4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5BB0-9D6D-4437-A405-EF8354E4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409B-E4A7-4315-B6E9-4ABCFD1C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1385-674F-490C-9B47-1799836D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391-3A52-4143-A092-F8CA9220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609F-F0E8-4BA1-AF16-B093895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BA95-F8DF-4FEF-92A0-89C2A8C1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49D5-0046-479C-8A9B-E2EEE725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79A-85FA-4114-BEFF-DFA57F8B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F9B6-2446-4E4A-B09A-64BEC572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4F4C-D0AE-4A4D-AC13-8EE18B7C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BBA9-E1AA-4C4E-A191-B19CDD1D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2466-9E76-4050-A410-514199DD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FB65-F0A9-47E4-A459-62CCF926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E91-4235-4DCF-BB7F-4F89C7E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10F-B321-4251-9513-2EB51A4A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AB1-C37C-4106-9312-EFB472CC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37B-8996-473F-9C65-D3C7925C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210-0947-450D-ACD4-6FB7851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4F0-389D-4104-9FA1-099D0C2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D4E-DF5C-4FD3-A05A-6726175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6329-2E3D-4F7C-9711-89AC7BC7FB7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48C0-20A5-4BC4-9DA7-E7DE2947690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1752480"/>
            <a:ext cx="4419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Dad</cp:lastModifiedBy>
  <dcterms:modified xsi:type="dcterms:W3CDTF">2009-02-05T23:56:25Z</dcterms:modified>
  <cp:revision>29</cp:revision>
  <dc:subject/>
  <dc:title>To Kill a Mockingbird</dc:title>
</cp:coreProperties>
</file>